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18A-15FC-43AA-A9CB-083F6DA0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DE7-C1B0-4D3B-A2D5-FE181B95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81F-2DD4-4519-9471-F68E358C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35E-6658-4DE0-836A-B035845B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6A13-CA27-4650-BCA6-24AAB6B5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BDF2-CD80-4805-B966-E872873F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E47B-FEBD-4569-9092-FA481232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1DB1-4B1B-4DDE-8ED1-36B375B2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7F2C-747A-4B60-9F6C-BEF56993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6B64-F195-4463-89F9-B1A0E853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BCD8-C9CF-42E0-9C19-55C65363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A1F-A7AB-491B-9859-2AD1FC37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8D2A-25B4-4FD9-9A59-2DF6B313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1A7D-73B7-42B8-ACED-02A27ED4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1219-E2D1-4BEE-8B16-244C12CC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7725-93EA-4CAD-8FAF-038160DB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EA8F-D948-49E9-83A9-82F6AAFF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58F-B785-4F88-92B1-C0A360EB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9ED-8700-4F10-A352-FFF75244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5B3-1A55-4EF2-B83E-FEA81F07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31A-BD68-4A21-B4A6-D5D136F3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9B4-1333-479B-AE0A-43E06B3D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ACC-8549-4AF0-A512-0318719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6309-A4B2-436E-AD86-2D6F9BE3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1201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51202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1203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1204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1205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51206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51207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51208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012A-DF87-47F0-9CEA-EA1B37792F4B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Picture 1" descr="new transparent feb2021 "/>
          <p:cNvPicPr/>
          <p:nvPr/>
        </p:nvPicPr>
        <p:blipFill>
          <a:blip r:embed="rId2"/>
          <a:stretch/>
        </p:blipFill>
        <p:spPr>
          <a:xfrm>
            <a:off x="8172360" y="6093000"/>
            <a:ext cx="774720" cy="64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2225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1" name="Freeform 52226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2227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2228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52229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2230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2231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2232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A7CE-592E-4547-97A1-255380671266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honics Training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Nikolas J.Cakeb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Overview and ai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Text Placeholder 11266" descr=""/>
          <p:cNvPicPr/>
          <p:nvPr/>
        </p:nvPicPr>
        <p:blipFill>
          <a:blip r:embed="rId1"/>
          <a:stretch/>
        </p:blipFill>
        <p:spPr>
          <a:xfrm>
            <a:off x="447840" y="1542960"/>
            <a:ext cx="8248320" cy="515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solidFill>
            <a:srgbClr val="5b5b89"/>
          </a:solidFill>
          <a:ln w="12600">
            <a:solidFill>
              <a:srgbClr val="414163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ff00"/>
                </a:solidFill>
                <a:uFillTx/>
                <a:latin typeface="Arial"/>
              </a:rPr>
              <a:t>In the beginning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Text Placeholder 16386" descr=""/>
          <p:cNvPicPr/>
          <p:nvPr/>
        </p:nvPicPr>
        <p:blipFill>
          <a:blip r:embed="rId1"/>
          <a:stretch/>
        </p:blipFill>
        <p:spPr>
          <a:xfrm>
            <a:off x="447840" y="1258920"/>
            <a:ext cx="8248320" cy="549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Short vowel sou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is my nightmare.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         e               i           o            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         o               a           u          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           u               e          i          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What ees my name? My name ees Neeeek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</a:rPr>
              <a:t>:( :*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Games-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U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 listening gam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run to the right card,hit the card teacher says,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ind the vowels as a tea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tar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aring the sound is very important and will help them later when they fully recognise the letter/sound.  Later when they can recognise you can add words to the g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6480">
            <a:solidFill>
              <a:srgbClr val="5b5b8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ff00"/>
                </a:solidFill>
                <a:uFillTx/>
                <a:latin typeface="Arial"/>
              </a:rPr>
              <a:t>CvC</a:t>
            </a: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 vowel word</a:t>
            </a:r>
            <a:r>
              <a:rPr b="0" lang="en-GB" sz="4400" spc="-1" strike="noStrike" u="sng">
                <a:solidFill>
                  <a:srgbClr val="00ff00"/>
                </a:solidFill>
                <a:uFillTx/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Text Placeholder 55298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6048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Final consonant sou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Text Placeholder 54274" descr=""/>
          <p:cNvPicPr/>
          <p:nvPr/>
        </p:nvPicPr>
        <p:blipFill>
          <a:blip r:embed="rId1"/>
          <a:stretch/>
        </p:blipFill>
        <p:spPr>
          <a:xfrm>
            <a:off x="457200" y="1217520"/>
            <a:ext cx="8229600" cy="545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5b5b89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Arial"/>
              </a:rPr>
              <a:t>Final soun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Text Placeholder 19458" descr=""/>
          <p:cNvPicPr/>
          <p:nvPr/>
        </p:nvPicPr>
        <p:blipFill>
          <a:blip r:embed="rId1"/>
          <a:stretch/>
        </p:blipFill>
        <p:spPr>
          <a:xfrm>
            <a:off x="457200" y="140652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6480">
            <a:solidFill>
              <a:srgbClr val="5b5b8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objectiv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We don’t need the kids to be able to understand every word or know the meaning, we just want them to have confidence to try to read and pronou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end of the course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you teach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y should have a clearer understanding of how each letter sounds and how they can use them to say simple 2,3 or 4 letter 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y the demo we want them to be able to identify and create the right combination of letters  to make the sounds suggested to them.. I say     “h-o-t” and they can find those letters and put them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707097"/>
              </a:gs>
              <a:gs pos="100000">
                <a:srgbClr val="4c4c7d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ff00"/>
                </a:solidFill>
                <a:uFillTx/>
                <a:latin typeface="Arial"/>
                <a:ea typeface="SimSun"/>
              </a:rPr>
              <a:t>Demo pl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is is how I would construct a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firs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basic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onics dem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(actually most phonics de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1) Intros- My name is A-a-A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I feel H-h-Hap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2) Warm up- Alphabet board relay 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3) S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4) Dr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5) Team sort the sounds game(find vowel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6) Team words under sounds on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7) Team arrange the alphabet cards on floor in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8) Students in pairs come out and make words from sounds teacher s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6:30:00Z</dcterms:created>
  <dc:creator>微软中国</dc:creator>
  <dc:description/>
  <dc:language>en-US</dc:language>
  <cp:lastModifiedBy>firea</cp:lastModifiedBy>
  <dcterms:modified xsi:type="dcterms:W3CDTF">2021-02-24T14:09:35Z</dcterms:modified>
  <cp:revision>48</cp:revision>
  <dc:subject/>
  <dc:title>New Phonics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984</vt:lpwstr>
  </property>
</Properties>
</file>